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307-2C93-4E48-8FEE-2DE16601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3F9-302C-4857-B268-75335520D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807-0FE6-4BBF-A1E6-32F166F2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9BA-DFA4-42A9-B302-BFBE9A7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C82-304B-4556-94C0-46655BAE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397-7593-407B-8DBB-0D104042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673-5CFF-45A9-9DE2-67F60D15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4108-CB88-4FC1-A3DF-D336488C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C208-39FD-4F3B-AAA8-B3F743AD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C43-5241-4A2C-902A-F9E5A79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8FF9-C4A7-4BC3-9EA8-25851F8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918-70AE-4E4A-BF09-D2943B7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9FC-D0A5-4E84-944C-17467AD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5BB-07FA-497E-A93A-B720D649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DE47-41A8-4E95-B010-007E1FE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823F-AA97-4600-B50E-B0B5D58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D60B-06CB-49FF-A792-D5821CF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96E-76B5-4A3D-8E73-C162F15A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4F4D-9C58-49FC-AD3B-89ABEC01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F2E-1BA2-4BF5-B04A-4A510EAD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42F-EE63-4CC0-ADD5-AF4177C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953-7B67-40FA-A976-A581F62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E04-B1D8-499B-B15E-6132B59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DF7-B2DA-412F-90BA-19710CD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40B-B50C-4C07-AEE9-F7C7DD1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A4F-37D7-4B19-9DA7-659BAD6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7B0-B188-4A60-A887-72B2282BA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8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8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51C-BCA5-4C30-B6A9-E7ADD7BF9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hyperlink" Target="http://www.quia.com/jg/1125971.html" TargetMode="External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Bad%20Dog,%20Badger!.htm" TargetMode="External"/><Relationship Id="rId2" Type="http://schemas.openxmlformats.org/officeDocument/2006/relationships/hyperlink" Target="http://www.scottsboro.org/~flewis/SF%20Reading%20Street/spellmaster/Bad%20Dog,%20Dodger/jigword2.html" TargetMode="External"/><Relationship Id="rId3" Type="http://schemas.openxmlformats.org/officeDocument/2006/relationships/hyperlink" Target="http://www.scottsboro.org/~flewis/SF%20Reading%20Street/spellmaster/Bad%20Dog,%20Dodger/matchword2.html" TargetMode="External"/><Relationship Id="rId4" Type="http://schemas.openxmlformats.org/officeDocument/2006/relationships/hyperlink" Target="http://www.scottsboro.org/~flewis/SF%20Reading%20Street/spellmaster/Bad%20Dog,%20Dodger/speedword2.html" TargetMode="External"/><Relationship Id="rId5" Type="http://schemas.openxmlformats.org/officeDocument/2006/relationships/hyperlink" Target="http://www.scottsboro.org/~flewis/SF%20Reading%20Street/spellmaster/Bad%20Dog,%20Dodger/wordsearch2.html" TargetMode="External"/><Relationship Id="rId6" Type="http://schemas.openxmlformats.org/officeDocument/2006/relationships/hyperlink" Target="http://www.scottsboro.org/~flewis/SF%20Reading%20Street/spellmaster/Bad%20Dog,%20Dodger/wordweb.html" TargetMode="External"/><Relationship Id="rId7" Type="http://schemas.openxmlformats.org/officeDocument/2006/relationships/hyperlink" Target="http://www.spellingcity.com/index.php?option=com_spellcity&amp;task=viewList&amp;listId=825632" TargetMode="External"/><Relationship Id="rId8" Type="http://schemas.openxmlformats.org/officeDocument/2006/relationships/hyperlink" Target="http://www.spellingcity.com/index.php?option=com_spellcity&amp;task=viewList&amp;listId=825639" TargetMode="External"/><Relationship Id="rId9" Type="http://schemas.openxmlformats.org/officeDocument/2006/relationships/hyperlink" Target="http://www.scottsboro.org/~flewis/SF%20Reading%20Street/spellmaster/Bad%20Dog,%20Dodger!%20Spelling%20Words/speedword2.html" TargetMode="External"/><Relationship Id="rId10" Type="http://schemas.openxmlformats.org/officeDocument/2006/relationships/hyperlink" Target="http://www.scottsboro.org/~flewis/SF%20Reading%20Street/spellmaster/Bad%20Dog,%20Dodger!%20Spelling%20Words/wordweb.html" TargetMode="External"/><Relationship Id="rId11" Type="http://schemas.openxmlformats.org/officeDocument/2006/relationships/hyperlink" Target="http://www.quia.com/hm/323162.html" TargetMode="External"/><Relationship Id="rId12" Type="http://schemas.openxmlformats.org/officeDocument/2006/relationships/hyperlink" Target="http://www.spellingcity.com/index.php?option=com_spellcity&amp;Itemid=122&amp;task=viewList&amp;listId=354279" TargetMode="External"/><Relationship Id="rId13" Type="http://schemas.openxmlformats.org/officeDocument/2006/relationships/hyperlink" Target="http://www.spellingcity.com/index.php?option=com_spellcity&amp;task=viewList&amp;listId=825641" TargetMode="External"/><Relationship Id="rId14" Type="http://schemas.openxmlformats.org/officeDocument/2006/relationships/hyperlink" Target="http://www.spellingcity.com/index.php?option=com_spellcity&amp;task=viewList&amp;listId=825641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4.xml"/><Relationship Id="rId3" Type="http://schemas.openxmlformats.org/officeDocument/2006/relationships/slide" Target="slide94.xml"/><Relationship Id="rId4" Type="http://schemas.openxmlformats.org/officeDocument/2006/relationships/slide" Target="slide135.xml"/><Relationship Id="rId5" Type="http://schemas.openxmlformats.org/officeDocument/2006/relationships/slide" Target="slide150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themoderatevoice.com/wordpress-engine/files/2009-january/fairfax_pool_bleachers.jpg&amp;imgrefurl=http://themoderatevoice.com/category/politics/negative-campaigning/demonization/&amp;usg=__BGt_1-1_b4jXYBsOC1dicjw8Vt8=&amp;h=549&amp;w=750&amp;sz=106&amp;hl=en&amp;start=2&amp;tbnid=JtFnYfMxSRz6nM:&amp;tbnh=103&amp;tbnw=141&amp;prev=/images?q=bleachers&amp;hl=en&amp;rlz=1T4GGLR_enUS263US266&amp;sa=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eteamz.com/titan/images/Titans-Bleachers-HomeSide5-17-07.JPG&amp;imgrefurl=http://www.eteamz.com/titan/index.cfm?showdonate=1&amp;usg=__dIMBPEGOKqg1OCydjdWJieWIQRY=&amp;h=1920&amp;w=2576&amp;sz=1265&amp;hl=en&amp;start=4&amp;tbnid=Ic1l-qR0-XsYOM:&amp;tbnh=112&amp;tbnw=150&amp;prev=/images?q=bleachers&amp;hl=en&amp;rlz=1T4GGLR_enUS263US266&amp;sa=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www.visitvictoria.com/content/2004/aug/spectators%2520at%2520a%2520sporting%2520event_30692_u_280.jpg&amp;imgrefurl=http://www.visitvictoria.com/displayobject.cfm/objectid.1512C788-E1E6-4449-89AFC9E33E3F84FE/&amp;usg=__fhvA-O5LGX6xW4UmxM6oszE-X0U=&amp;h=228&amp;w=280&amp;sz=35&amp;hl=en&amp;start=4&amp;tbnid=SmNOW1sLsE7ufM:&amp;tbnh=93&amp;tbnw=114&amp;prev=/images?q=spectators&amp;hl=en&amp;rlz=1T4GGLR_enUS263US2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3cushion.com/Other%2520Tournaments/Pics/spectators.jpg&amp;imgrefurl=http://www.3cushion.com/Other%2520Tournaments/copaelitte2004.htm&amp;usg=__9OxqmaHPiU1OQLPjGJ0KgYpfaJ4=&amp;h=300&amp;w=400&amp;sz=60&amp;hl=en&amp;start=18&amp;tbnid=9FzxX42ISYPACM:&amp;tbnh=93&amp;tbnw=124&amp;prev=/images?q=spectators&amp;hl=en&amp;rlz=1T4GGLR_enUS263US26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hyperlink" Target="http://images.google.com/imgres?imgurl=http://www.jethawks.com/images/tickets/dugout-teams1.jpg&amp;imgrefurl=http://www.jethawks.com/tickets/dugout-teams/&amp;usg=__npidnbrZL_z6UkwMJDe3x5FZuKk=&amp;h=287&amp;w=408&amp;sz=19&amp;hl=en&amp;start=5&amp;tbnid=gBEACic2Q5rltM:&amp;tbnh=88&amp;tbnw=125&amp;prev=/images?q=dugout&amp;hl=en&amp;rlz=1T4GGLR_enUS263US266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www.jdland.com/dc/images/other/stadium-interior-dugout-200802-1.jpg&amp;imgrefurl=http://www.jdland.com/dc/stadium.cfm?tab=no3&amp;usg=__ecOvhOkfKhzMpPSsnNDmDgiDLzs=&amp;h=322&amp;w=600&amp;sz=106&amp;hl=en&amp;start=12&amp;tbnid=Jo4K68556jYJKM:&amp;tbnh=72&amp;tbnw=135&amp;prev=/images?q=dugout&amp;hl=en&amp;rlz=1T4GGLR_enUS263US266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How can we be responsible family members?</a:t>
            </a:r>
            <a:br>
              <a:rPr sz="3600"/>
            </a:br>
            <a:r>
              <a:rPr b="1" lang="en-US" sz="2000" spc="-1" strike="noStrike">
                <a:solidFill>
                  <a:srgbClr val="0070c0"/>
                </a:solidFill>
                <a:latin typeface="Arial Narrow"/>
                <a:ea typeface="Arial"/>
              </a:rPr>
              <a:t>Click to listen to 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8" descr="Bad Dog, Dod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2514600"/>
            <a:ext cx="3111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o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6104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efixes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un-, re-, pre-, d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cover, precook, prepaid, react, dislike, distaste, undo, replay, reread, pretest, disagree, un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un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pre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dis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co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p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seball team gets together to work on playing better, or a baseball team meets with another baseball team to play a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girl handed an apple to her sister or a girl took her sis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apple away from 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aby is crushing a blanket with her teeth or a baby is holding a blanket while she slee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—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oy ran after his hat as it blew away in the wind or a boy threw his hat into the a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ich situation is a good example of the vocabulary wor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getting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getting sent to your room or getting a box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thing being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dog moved his tail back and forth or a dog ran after his tail to try to catc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ich is an example of some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a girl who just climbed out of a pool or a girl who has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 gone swimming y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7400" y="358560"/>
            <a:ext cx="7324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hing a person can read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baby sheep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la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kind of j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l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opposite of righ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can do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li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s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gs people use for their hair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dy parts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uck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hen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fat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n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hyme with cob (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member the title of this stor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want to understand why Dodger is considered a bad dog, you can classify, or group, the things that Dodger does that make people think he is a bad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example, he knocks over the trash, jumps into the bathtub, and chews Sam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baseball c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behavi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 – hav- 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people and animals act or behave is called the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had goo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uring the assemb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mproved after we trained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enjoy watching the bird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 the feed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assify/Catego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ad Dog, Dodger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t is also about bas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k of all the words in the story that can be classified, or grouped, under the word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baseb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921996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ine said?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raining for dogs.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sign said, </a:t>
            </a:r>
            <a:r>
              <a:rPr b="0" lang="ja-JP" sz="4800" spc="-1" strike="noStrike">
                <a:solidFill>
                  <a:srgbClr val="ff6699"/>
                </a:solidFill>
                <a:latin typeface="Arial"/>
                <a:ea typeface="Arial"/>
              </a:rPr>
              <a:t>“</a:t>
            </a: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raining for dogs.</a:t>
            </a:r>
            <a:r>
              <a:rPr b="0" lang="ja-JP" sz="4800" spc="-1" strike="noStrike">
                <a:solidFill>
                  <a:srgbClr val="ff6699"/>
                </a:solidFill>
                <a:latin typeface="Arial"/>
                <a:ea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at should i teach my do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ff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What should I teach my do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 and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we will read about how to train a pu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behaving badly or doing something impressiv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behavior. They are obedient, and they cooperate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training a dog. Trained dogs are always on their best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They ar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they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How do you think dogs are trained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ell a Movie or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scar the Pupp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ope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 – op – er - 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people or animals work together to accomplish a goal, they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hildren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paint a mural on the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ith its owner to learn new tr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ope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build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weekly helper came to our class for the whol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enough meat to make the biggest, fattest sandwi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ok above the shelf at the lovely gift for my teac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hardest word to read since it is longer than m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tory began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ng ago, there was a graceful dancer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ctor seems busiest toward the end of th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cat chewwed my s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cat chewed my sock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 wish me knew why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I wish I knew wh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t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peaking and Listening: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tell a Movie or a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ak loudly enough to be he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ing Connections: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read a story about how to train a puppy.  Tomorrow we will hear about more ways to teach a puppy to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r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uppy who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rns to obe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obed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 - be – di – 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a person or an animal is willing to do what they are told to do, he or she i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ildren did what their parents asked them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og w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he stopped jumping on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4400" y="2286000"/>
          <a:ext cx="6629400" cy="418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ing responsible by teaching dogs how to follow the rules. We must follow rules, too.  In what other ways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171360"/>
            <a:ext cx="84582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wren perch on that lim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wrap my hurt knee with t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drew the wrong design on my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new shirt had a wrinkle in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ran after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happy when you get one of these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he way a happy dog moved its tail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hat water is doing when it comes out in drops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Obedience School"/>
          <p:cNvPicPr/>
          <p:nvPr/>
        </p:nvPicPr>
        <p:blipFill>
          <a:blip r:embed="rId1"/>
          <a:srcRect l="1530" t="1089" r="0" b="7783"/>
          <a:stretch/>
        </p:blipFill>
        <p:spPr>
          <a:xfrm>
            <a:off x="3962520" y="228600"/>
            <a:ext cx="4922640" cy="6400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2832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isten for Amazing Word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must do this to get better at something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a word that mean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k quickly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are doing this before you swallow food. (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839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dog listen to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My dog listens to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n I and Dad comb his h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n Dad and I comb his ha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66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help people find information about many top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yclopedias contain articles, which are arranged in alphabetical order by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dictionaries, encyclopedias have guide words and e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ncyclop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d encyclopedias often contain many different books, called vol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volumes are numbered and have letters o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oose the volume that your topic would be found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the guide words to find your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Wee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i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et that is sill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.  What sound do you hear at the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the beginning sound of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sil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l learn other words that have silent let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Lin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99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Vocabulary Practice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lling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ff Happens with Bill Nye: Pets (20:13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People, Real Math: Choosing a Pet (K-2) (13:5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About Animals: Mammals (Revised) (10:0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Apt Plus Videos  </a:t>
            </a:r>
            <a:br>
              <a:rPr sz="4400"/>
            </a:br>
            <a:r>
              <a:rPr b="1" lang="en-US" sz="2400" spc="-1" strike="noStrike">
                <a:solidFill>
                  <a:srgbClr val="ff6699"/>
                </a:solidFill>
                <a:latin typeface="Verdana"/>
              </a:rPr>
              <a:t>(password required)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7432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gus and the Ducks (14: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ficer Buckle and Gloria (12:19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I Grow Up I Want To Be a Veterinarian (15: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rry the Dirty Dog (09:08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50532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u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letter n usually stands for the sound /n/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iti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n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kn, the k is sil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gn, the g is sil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Content Placeholder 6" descr="card 20.jpg"/>
          <p:cNvPicPr/>
          <p:nvPr/>
        </p:nvPicPr>
        <p:blipFill>
          <a:blip r:embed="rId1"/>
          <a:stretch/>
        </p:blipFill>
        <p:spPr>
          <a:xfrm>
            <a:off x="380880" y="228600"/>
            <a:ext cx="280836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1752120"/>
            <a:ext cx="487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unt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 m usually stands for the sound /m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n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dial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m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m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s mb at the end of the word usually stand for the sound /m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rumb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Content Placeholder 8" descr="card 19.jpg"/>
          <p:cNvPicPr/>
          <p:nvPr/>
        </p:nvPicPr>
        <p:blipFill>
          <a:blip r:embed="rId1"/>
          <a:stretch/>
        </p:blipFill>
        <p:spPr>
          <a:xfrm>
            <a:off x="228600" y="304920"/>
            <a:ext cx="2960640" cy="61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5920" y="2589120"/>
            <a:ext cx="639468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952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ck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tter r usually stands for the sound /r/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l 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nal 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en a word begins with wr, the w is sil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re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0.jpg"/>
          <p:cNvPicPr/>
          <p:nvPr/>
        </p:nvPicPr>
        <p:blipFill>
          <a:blip r:embed="rId1"/>
          <a:stretch/>
        </p:blipFill>
        <p:spPr>
          <a:xfrm>
            <a:off x="380880" y="228600"/>
            <a:ext cx="29988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you know about reading thes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letter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tand for the consonant sound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, r, n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1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nk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l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ea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7"/>
              </a:rPr>
              <a:t>Spelling City: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8"/>
              </a:rPr>
              <a:t>Spelling City: Amazing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3"/>
              </a:rPr>
              <a:t>Spelling City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ck, gnu, knee, knew, comb, gnat, wriggle, wreath, limb, knock, dumb.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00400" y="205740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u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n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membe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e Dark N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happened in the 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l what you learned about Jonath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might have happened if Jonathan had not helped the ca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2209680"/>
          <a:ext cx="3262320" cy="409104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1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e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n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ri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er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lot and Th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happens in a stor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beginning, middle, and ending is called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characters feel can affect how they act, and their actions make up the pl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heme of a story is the stor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g idea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or what we learn from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use what we already know to draw conclusions about the the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rong date is on the sig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wrong date is on the sig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lam scared the wren awa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  <a:ea typeface="Arial"/>
              </a:rPr>
              <a:t>The lamb scared the wren aw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lways writ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with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lways wanted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parents gave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en you talk about yourself and another person, name yourself l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sing toge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ople are surprised when they hear the dog and </a:t>
            </a:r>
            <a:r>
              <a:rPr b="1" i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____ 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___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___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1828800"/>
          <a:ext cx="3353040" cy="490680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49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b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w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g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eac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ta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g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__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ve a dog named Pe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re best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epper sings with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ing makes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happ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ybe Pepper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an sing for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, wr, gn,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the class will read about a pet that needs to learn how to follow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295280" y="243828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st ways people can cooperate with each other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right and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wrong.  How do we know right from wrong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25146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Sam and his dog, Dodger.  Sam must teach Dodger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right and what</a:t>
                      </a:r>
                      <a:r>
                        <a:rPr b="1" i="1" lang="ja-JP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How do w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right from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o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ings –ed and –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mpan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 – pan –  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a person or animal who spends time with you, as a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y grandfather lives alone but has a little dog for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toddler ha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o like to pla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kitten is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mpa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the older do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s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 sid - 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something, you think about it very carefully before making a dec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wil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llowing me to get a pet 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had to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s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ther I wanted to take piano lessons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reprim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 – ri - m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ge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hat means you get a talking to, a warning, or a scolding for doing something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 got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being late for school so many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gave me 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reprim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walking across the carpet with muddy sh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342900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Zoo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knigh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 can read this word because you know how to read words with silent consonants that stand for the /n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sound do the letters kn stand fo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he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you come to a new word, look at the letters from left to right and think about the consonant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g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eep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ic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na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ristb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p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ck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Phonics Songs and Rhymes Chart 23"/>
          <p:cNvPicPr/>
          <p:nvPr/>
        </p:nvPicPr>
        <p:blipFill>
          <a:blip r:embed="rId1"/>
          <a:stretch/>
        </p:blipFill>
        <p:spPr>
          <a:xfrm>
            <a:off x="4114800" y="152280"/>
            <a:ext cx="4572000" cy="6478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2666520"/>
            <a:ext cx="3136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isten for words with the silent conson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71360"/>
            <a:ext cx="868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k out the words with silent consonants in 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 Just a New Puppy.</a:t>
            </a: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es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ickkn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neec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n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5740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ug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wa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o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estle, gnaw, sign, knuckle, plumber, climb, knickknack, knothole, wrinkle, gnat, wristwatch, la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3429000"/>
          <a:ext cx="7772400" cy="2697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k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w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g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6699"/>
                          </a:solidFill>
                          <a:latin typeface="Verdana"/>
                        </a:rPr>
                        <a:t>m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ickkn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th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stwa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can we be responsible famil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198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ad Dog, Dodg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791320" y="2438280"/>
          <a:ext cx="2895480" cy="36576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Glue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caus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19810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99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ock             gn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gn                la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nee               com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ong             kn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u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mb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ap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es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33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ilent Conson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climb the tree, you can see a wren in a n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wrong to go inside a house before you kn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will sign my name on the card and then wrap the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write about a lamb and a gnat with a c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 repeat an action in order to im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grabb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took hold of something sudde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ew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grinding something between you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h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ran after some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pecial gift, ofte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wag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moved from side to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dri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liquid falling slowly, drop by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 action="ppaction://hlinksldjump"/>
              </a:rPr>
              <a:t>bleachers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 action="ppaction://hlinksldjump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raised seats on which people sit to watch sports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 action="ppaction://hlinksldjump"/>
              </a:rPr>
              <a:t>spect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people who watch an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 action="ppaction://hlinksldjump"/>
              </a:rPr>
              <a:t>dug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a shelter where baseball players sit when the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 waiting to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 action="ppaction://hlinksldjump"/>
              </a:rPr>
              <a:t>(next sl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bl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7" descr="fairfax_pool_bleach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514600"/>
            <a:ext cx="3886200" cy="2838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Titans-Bleachers-HomeSide5-17-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514600"/>
            <a:ext cx="3714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spect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7" descr="spectators%2520at%2520a%2520sporting%2520event_30692_u_2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09680"/>
            <a:ext cx="3581280" cy="2922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spectato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209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" action="ppaction://hlinksldjump"/>
              </a:rPr>
              <a:t>dug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6" descr="dugout-teams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stadium-interior-dugout-200802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590920"/>
            <a:ext cx="40291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c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erybo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b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ew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a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g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r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times we can get the meaning from word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may understand the base word and the prefix or the base word and suff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in a dictionary or glo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look for endings in the unknown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day we will learn more about the endings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–</a:t>
            </a:r>
            <a:r>
              <a:rPr b="0" i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43828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e know what the word responsible means. It means to do what you're supposed to do. How can we be responsible family member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he will com the lambs woo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he will comb the lamb</a:t>
            </a:r>
            <a:r>
              <a:rPr b="0" lang="ja-JP" sz="5400" spc="-1" strike="noStrike">
                <a:solidFill>
                  <a:srgbClr val="ff6699"/>
                </a:solidFill>
                <a:latin typeface="Arial"/>
                <a:ea typeface="Arial"/>
              </a:rPr>
              <a:t>’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s woo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nat bit the ren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  <a:ea typeface="Arial"/>
              </a:rPr>
              <a:t>The gnat bit the wre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nouns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pronou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 word that takes the place of a noun o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nouns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ake the place of you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n the subjec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after an action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Arial"/>
                <a:ea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is always a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rap Up Your D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me and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orrow you will hear about a girl who learns to be respon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47920" y="251460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time when you saw a dog doing something funn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named Zooks.  Eileen wanted a puppy more than anything. But her mom expected her to do some petsitting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d Dog, Dodger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dnes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19320" y="2133720"/>
          <a:ext cx="6781680" cy="4187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a dog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ooks.  Eileen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n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 puppy more than anything. But her mom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her to do some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sitting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irst.  What kind of animal do you love best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fix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-, re-, pre-, di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lent Conson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assify/Categ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ing I and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88840" y="358560"/>
            <a:ext cx="73216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  <a:ea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67652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confi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 –fi –d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animals or people are sure about things or are certain they have the ability to do something, then they will b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themse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te felt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ould do well on the math t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patted the dog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 head so he would feel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confi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 was behav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2840" y="245880"/>
            <a:ext cx="775332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  <a:ea typeface="Arial"/>
              </a:rPr>
              <a:t>prope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 – er – l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something is done in a correct way, it is don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learned to form all my cursive letters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m said we needed to behave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when we visited her fri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Arial"/>
              </a:rPr>
              <a:t>prope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rained dog will not tug on its le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2-24T20:50:16Z</dcterms:modified>
  <cp:revision>32</cp:revision>
  <dc:subject/>
  <dc:title>Slide 1</dc:title>
</cp:coreProperties>
</file>